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21E-54DB-4370-8330-C6E5272E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4A2-59A5-4A8B-B1BA-9A7A95F7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CC9-99FB-47E7-884B-EEE57A94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C207-C508-4E93-9325-833BBEE5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F3F-661C-408A-9E1F-FD342B14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3A39-82E4-4E2C-AD78-60F01B2C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5BD8-7710-4577-9116-CF61E7A8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3D81-B550-4277-BDA0-10AF371F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F27-C559-42E7-8F39-FBDC729E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EB79-3E15-400B-8EDC-155809EB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1B11-A92B-44B6-B443-010FB271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4F35-B6CA-49B2-A3AB-FD6EC068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09EF-51EE-4179-8837-A8F07A720B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TE HOU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whitehouse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ROSS HA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UE RO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blueroom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EEN RO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7053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D RO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redroom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791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ST RO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2" name="eastroom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TE DINING RO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statedining" descr=""/>
          <p:cNvPicPr/>
          <p:nvPr/>
        </p:nvPicPr>
        <p:blipFill>
          <a:blip r:embed="rId1"/>
          <a:stretch/>
        </p:blipFill>
        <p:spPr>
          <a:xfrm>
            <a:off x="1371600" y="1936800"/>
            <a:ext cx="65530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INA RO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6" name="chinaroom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933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AL OFF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" name="ovaloffice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96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3:48:35Z</dcterms:created>
  <dc:creator>lauletj</dc:creator>
  <dc:description/>
  <dc:language>en-US</dc:language>
  <cp:lastModifiedBy>Gateway </cp:lastModifiedBy>
  <dcterms:modified xsi:type="dcterms:W3CDTF">2001-04-07T12:34:20Z</dcterms:modified>
  <cp:revision>5</cp:revision>
  <dc:subject/>
  <dc:title>No Slide Title</dc:title>
</cp:coreProperties>
</file>